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FC3-99E5-486B-BCCE-A6F6AB8C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4008-7602-4273-BAF0-6FCB550A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D8D-AD76-4052-BDDB-FCF20944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EB4-E1D9-44A0-AC1A-76BF5F80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557D-D1D7-43B4-843F-570F84E8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58FA-A909-460B-AFAD-D2C25190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198C-25DB-438B-9628-423606FC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4766-2267-424D-B54D-4C80B568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50A1-BDA8-4694-9D8E-0A023217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6A6E-D132-4514-9446-CBD87EBC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4DB5-D0E4-4EBC-8789-52D8D273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C77-A485-4B41-9DC1-883D2AF8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79A4-4ED5-4F6C-8721-1E45507C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94C0-4394-4D76-B903-C863304D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0F9D-B7C3-49AE-8105-7ACE14F2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AF81-6BBA-45A3-B84F-A4322D79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1C2E-F9A0-4FC3-AFD3-25B9F10F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9D2F-7462-4ED8-BAC9-76B612E4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A74BC-757B-4188-BF20-0791304E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10523-A245-4F3A-AE46-D0966431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7D700-C147-4239-9EFA-A5637918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E1426-4B93-47F9-9A35-94CFB5F7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ED2-4962-46D0-BA9C-3EA040AB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F686-349B-49C3-8B96-8572A30B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97609-0911-486B-8D40-B133F42B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722D0-9657-4648-A42D-C259A9DC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AEF08-4C26-4E32-BAEA-CEC9CC38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DC649-DAC3-4611-8403-597ACBF9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30B8C-A03D-4AC4-BBBC-79B44A2A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1AC5B-F1C0-4D7D-8599-C981B6C9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20B11-C15E-4861-B703-C012956F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98C7F-BE56-4169-A3DF-EE93FAAF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1D969B-FF31-4442-86F1-8AE45B47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C94-3E62-4EA4-A253-0012B8EB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3AA064-D797-45E0-8371-FDC6AF61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1DBCC5-A528-42E5-A242-8F5E234C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B5A557-EF2A-4123-81E4-92D83F02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F7FECA-65FE-4F90-8D05-07121EB9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03FF8-A17D-4429-9601-06A26FC0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264B5-42D6-46BE-B12C-7B7ED120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E74E17-CB21-4AA6-875C-B9F5BFEA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D33428-2C81-4458-B3B3-487FC186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59FF04-9B3C-43B8-83D2-9CFB9AEA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AFD4D-7EB3-4D24-A144-240DE8E5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95A-9215-4899-BE90-4AC90CF4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9E5CB-383C-4A63-8718-98FBA459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CBB07-F638-43D7-B058-7A1119BF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2ECDE-E33D-4068-9EF0-E7A256C0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03420-EF1E-4A39-8E05-D5FDB4F1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CA395-5AEF-4DED-B63A-201D047C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FD7CA7-EB4A-4E47-9292-CB102E5B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E6D3F-ED03-4AB7-9E60-3F0FD215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F0038B-5BD6-41BD-990F-85CF906D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ECB9A-D8B8-4ADE-B03E-0989F382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4BB18-D05F-4416-9E9D-1D90D1BC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F9E-35D2-4B65-9B58-45BF6B65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F00B2-3528-466F-BA86-BDBFAEBF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F5B36-D0F2-4DF9-B521-3BE730C7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DC818-FE47-447C-ADB1-BD0E3652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55FDC-A5BC-4CF8-BF67-D0767D66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B8F24-D7F4-4B61-9043-96156ECA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DF56C-1DA5-4261-8A3D-54B8DC09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5051E-014B-4398-A334-F2C0D532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6E22D-A45E-41F2-A022-CA339C1E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60C4B-9969-4EDB-8303-DDEED07E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8D8FB-FF3E-46FA-A488-6A4E74E2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DE3-1BDA-4876-BAE8-0067E9C5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650DB-051F-469A-9423-2A438415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16207-96B1-4213-B404-5066A408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C147D-17A7-4EC3-A246-D9B57ED6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642-6536-485F-BD8C-BB988D3F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A61-28EC-4164-9A20-2F493675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B6A7-912B-4AFB-B59D-7EFE76D16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8EB7-37AB-489C-9E41-D78754820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8E56-ABC4-459A-B24A-7EC9102D5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B218-9AC4-4DF9-81DA-A0EE45FA2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B92C-E321-43B8-9902-9B9550713E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57CA-EC15-45BA-9301-D04177FDE2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flashnewstoday.com/wp-content/uploads/2010/07/polluted-water.jpg&amp;imgrefurl=http://flashnewstoday.com/index.php/waters-of-polluted-chinese-river-to-reach-russian-border-on-august-4/&amp;usg=__hneDgzLApoKgkG5f5aR_mS5NOzo=&amp;h=340&amp;w=600&amp;sz=81&amp;hl=en&amp;start=8&amp;sig2=F7Vsr7MY-NTDbUZZ1MiwxQ&amp;zoom=1&amp;itbs=1&amp;tbnid=3nFknu0dj6_ZXM:&amp;tbnh=77&amp;tbnw=135&amp;prev=/images%3Fq%3Dpolluted%2Brivers%2Bin%2Brussia%26hl%3Den%26safe%3Dactive%26gbv%3D2%26tbs%3Disch:1&amp;ei=BnoHTcX_BeqynAfynIjgDQ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viron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hael and Jim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Pollution in Russia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past, the Soviet Union trained their army without caring about the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xic waste in riv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sticides and heavy metals poisoned so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il spills happened a lot but they were never cleaned u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dioactive waste in rivers and se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p water is dirty because it comes from polluted riv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al-burning factories release chemicals into the ai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90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971800" cy="24382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80880" y="27885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al-burning factories in 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4724280" cy="36576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733920" y="3961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irds in Russia dying from oil sp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380880" y="358128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80880" y="5743800"/>
            <a:ext cx="289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Abandoned houses on Techa River in Russia, severely contaminated by toxic was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581280" y="4495680"/>
            <a:ext cx="3743280" cy="20574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315200" y="4572000"/>
            <a:ext cx="144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ctories release chemicals into the air, which is bad for the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eaning Efforts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tle money to help with the cleaning eff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ess is s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are working on solutions- planted trees, research on household detergents that help polluted ri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ying to clean up Lake Baikal, the world’s most ancient l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88620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57200" y="30474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aikal Seal, the lake’s top predator, could be harmed by polluted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4286160" cy="3505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267080" y="396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ussian workers clean up an oil spill in the Black S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3581280" cy="25146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191120" y="5410080"/>
            <a:ext cx="312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Paper mill that has been polluting Lake Baikal for over 40 years is being shut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Affect on People and Animals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56840" y="1980720"/>
            <a:ext cx="4040280" cy="19875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456840" y="4106520"/>
            <a:ext cx="4040280" cy="1989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live in environmental wastelands created by past gener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endangered animals because their habitat is being destroyed, such as blue whales, tigers, snow leopards, and sea ot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457200" y="388620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457200" y="1600200"/>
            <a:ext cx="40384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22:49Z</dcterms:created>
  <dc:creator> </dc:creator>
  <dc:description/>
  <dc:language>en-US</dc:language>
  <cp:lastModifiedBy> </cp:lastModifiedBy>
  <dcterms:modified xsi:type="dcterms:W3CDTF">2010-12-20T14:15:10Z</dcterms:modified>
  <cp:revision>9</cp:revision>
  <dc:subject/>
  <dc:title>Environment</dc:title>
</cp:coreProperties>
</file>